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A1203-0084-4092-823C-6CFC19E32D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96683-A5FA-4B0F-9260-CC56F777D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379D6-A845-4B55-BEF8-AB97496473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FC9-58AB-46DD-8E5B-F6A83E42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431-FFF6-453F-B512-AACBB097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678FF-7630-486B-97A3-F4B0832E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2464C-0D7C-4237-88CA-DFE649FD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99546-65F9-475E-A786-1A5736B4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B4E9B-AD1B-4B8B-A92E-ADAAE01A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C68E4-FA36-41C8-BC62-26EA2221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28F90-D2C0-4BA0-AF64-2591E4B1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5F7F3-939F-4E5B-85AB-112FE239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DD43C-1149-4537-AA63-6C999F68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2C323-73EF-4957-823C-5EA5C98D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36956-98B3-487C-8E83-190AB8EA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A0F-705E-406C-95B9-DDD11639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3B58A-65A3-477D-A5A0-A85E379F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2B1B9-0B56-40B7-86F3-07B1E078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A53F1-2507-48B7-A898-ED3E2E5D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EBA56-3992-44D7-BA2C-418E65A9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FD132-2030-4437-A141-3D516332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B10A8-1413-4409-9916-8FAE430A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68E13-5872-45AC-8A8E-5C76F730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047AF-9F3A-4189-8E8C-BF63278A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AD766-3326-41F1-959F-7B7D50F1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3E368-CF9F-4805-AF6B-15398A21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7B2-CEED-49B2-BEE7-46232F4A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7D08A-5216-454E-8E06-82F544FE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272B7-2B6F-4B32-B0A7-0EF20B09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A1454-E2F2-40A7-8EA5-AE2ADBFC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B0690-D14C-4A53-AC49-F08C0685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7EBA6-A992-4C18-968A-9A221687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694E3-8EEF-441B-A893-8DF326A7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32AB8-F3EA-4B0F-A94D-22724C5B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383DA-B2CD-4D5C-BFD5-3032791C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07032-DFED-4079-9B21-34257360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EE395-F078-4232-9830-CFCB08EC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3A924-C12F-4709-8870-08E768B7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79D73-5B1C-4912-A500-55F4C24E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A3C46-03D2-4914-B44C-53E8A7CF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DB7B7-5795-489C-BD68-50B8DD07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BCB5E-E5DF-4DA9-8748-1A4B13C9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0F6F8-9C31-4BC7-82C6-54FDAE18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AA004-D9E1-4FA8-A653-7B2A5B79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C1508-BE73-4EB2-B0D2-180328F4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98CCB-5821-412C-A72A-6ED02CF5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CE4B5-3E76-44ED-A5A8-BE585671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A2C0C-DDE8-4D76-A043-D4157FC0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96F61-27EF-4552-B53B-0AD4A32D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D6908-7769-41EC-B7E7-914C9DFF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4DCF9-CE42-481D-8A6C-839E05C2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C0E79-DD6B-408A-AF59-E4C766F4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62B01-6416-4772-9452-E44C80AC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8E5DB-36CA-4884-B57F-7C049354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9A024-7276-4015-A5E2-B95DDB91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78F90-3E1C-4C46-92D8-CBB73EC6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51872-799F-4F11-9B57-F2B6CAF8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234DA-A03B-4CDB-9F02-8A90724A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40BFB-572B-4FF8-ACE7-0E444E37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F82C3-AA02-4B33-BCF9-EF4AE004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3EBE8-61CA-4857-9555-A3A09C76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88196-1B07-4D42-93D7-5DBAE7A2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8F4B3-3CBD-4DBE-9F6F-3DF8999F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B0D0D-DA61-4E52-934E-7F344DB3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7AA54-BF44-409D-A8D6-EEF0D3F0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F4C4D-4A2C-41FA-A516-6CDC662B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07B5A-DE16-4532-8E9F-F6177B6B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875FC-D6F1-4508-BC22-E07A2307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B3648-4E06-4C88-B661-DCFF35A7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B1C43-27CB-41C3-9176-364635CF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B07DF-B127-4A80-A4F3-1BB02007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1ADC7-E62B-4C5E-9F29-16410789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0F0EE4-AA93-4950-B2E6-11CDF8E6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3DB4B-7355-4903-8C4E-5A8BDD86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AEC5F8-185B-48BB-BFB1-857B71FB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9B684-238C-48D3-AB33-EC4573B8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9B3F4-6382-4222-9B1F-215E897D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C27871-F4BE-4446-B276-41E84EC3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48E86-1C69-4497-8D34-24DE89B7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8A3D7-38A3-472C-9F60-819FFE1B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35A003-2D92-4B3E-B524-013735A4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3EAC3-8CDD-48A8-B3FA-94BBF408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3F2774-D235-460C-9C52-C3FE6822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08E63C-51C3-47C6-AC6E-0689D32F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CBBCA-4AF6-4A7D-A3A3-04727E96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6A86A-A14D-4091-BF01-41EF3C5E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A4FE3E-0381-400D-BBE5-129F9CA7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EEAFD-46AC-4BEB-9399-8A060282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C3E78-718C-451C-A599-2838970F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39DBF6-6AEE-4F21-AE17-931EC210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1658F-38C9-4949-B8BA-F5A4D87B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E1E77-D6BB-4ABB-A0E3-E4E9D93C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AE698-5F07-45A6-B050-F0681966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62F03-3F6F-4289-A35E-04057A15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39324F-BF03-42C9-9CA8-83D3C602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9E6D2-5A97-4CEE-97A9-A5A06126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2157EB-B39C-4590-8A22-C03A998B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3471B-A62C-49C5-82C8-C1184B8A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C6622E-BBD3-4A84-8D81-31891581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DE41C-4E4B-4DDB-B747-B6DB06DC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67B5B7-815D-45D3-8B2B-0EC3500A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1AAA0-65E3-4454-8643-AC816346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2C7A22-8468-4820-9D0F-CF954706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FC2B1-C828-47B2-AB53-E023D99B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02BFA0-8239-433C-B786-683303C4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5BBF7B-305F-48CD-BE8D-95BD4DAD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5AF48E-7F37-4AF7-9AD9-CAF10E7A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BA1D5-07F7-4E49-B8A1-4C9DBAF7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D20B2C-D1F6-4C50-867D-516B10B4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51E919-C85E-428F-87AC-4AA60391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E43DDB-7153-4788-BBD2-D79E0B01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B42F46-95B4-4AF7-967D-35C1CB57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7B729F-0D2D-4DD2-9588-D79441FF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3B9D0-67D1-4EB1-B2D5-1CAF617D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ADA-0B85-45DD-88BC-538C3131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4725A-1E26-4B28-B9E7-AE625D16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629337-3CFE-49B3-A110-D352708B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7D045A-4A48-4C8A-97D7-058B1338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001401-386A-4C95-85CD-A211797D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808A30-A3D7-462B-A799-D4D63F8F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09DB1-7837-4873-A633-8297583C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30768-E7D6-4C05-BBE6-FF87C3FF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6378B-2DBA-4708-B9A5-5D22D586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BFB95-D060-4465-984D-3B488E62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A4498-F3E2-4A2F-A171-5CB08150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E9231-A837-4CBC-8133-0D5797CE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834CB-DBC5-4D1E-A88B-33184329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F0738-2F21-40A9-A1D5-E36BE897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4896F-6D69-4B96-A90D-94E4A9B2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B0C2-FA5D-41B0-A64A-C3E58757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180-4844-4C32-988E-36CB200B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16A66-BCBD-45F8-B1C7-A5D3DEDC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EB4A7-2403-41AF-B455-9A60B034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3455-4667-4AD4-AAB1-9EA13411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20759-0F7A-4A02-9CD7-2FC17ACE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A2D9A-FE22-47F3-A5A3-B1B5A100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0F5E-6258-4F6F-999D-F189148D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545B-265C-4E8A-81D3-B0598DA4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F778E-C143-4EA3-8E0C-4108147F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BF3B2-8994-4E98-95F9-E28753B6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29CDD-2558-42DC-B282-34B443CF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218-B78A-4504-B229-602B7EC2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7CD50-3621-4FBB-B329-1001AB90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01923-BD7E-45E8-9666-CA9A07BE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A39F7-920E-4D18-B790-F744F59E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38CD8-E9F3-4C58-8895-41D1BD8E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352E7-49A8-4C39-89F0-6CC5FF24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84F9E-4436-4B1F-A18B-4A6DA200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9ED7C-07A1-4A81-8B6F-46D8BF0D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7FE9-F9B8-4945-A28E-B655849C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78FDB-6769-4993-8A69-6C234A81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E30CA-102E-4A98-9D65-AE37F094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E55-0AB3-4609-8A0A-5CA834CC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676C6-A401-45C9-AC21-E2CAC57B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334E1-4741-4D45-A5C3-4B21B914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D86C8-0A37-4681-AD35-E2172F2C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A7A8A-4E16-44C4-A279-1EDD459F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E6EB8-95EF-4817-BAEA-68E2B84C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8E29B-E075-4374-88D7-A9826E38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4F8B8-50AF-4DCD-8882-3681B0CB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306AD-CAB6-466B-A787-6C74ED69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89772-DCFB-4F4C-9379-4F971D95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72D31-5263-4151-99BA-A6AB3019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787-CAA3-4A43-BE79-0367C319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29D7C-B59E-4B92-B8E2-58BE4C25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DB2C7-9F22-4C72-943A-1983EC22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D6074-4C96-4623-B01A-7634BC83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E8773-DD87-49D7-8A9F-F1F9BA80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940D0-53BD-4C68-8235-7BE9835A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5CCBF-6801-455B-A887-56BDAD61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4960C-B779-479B-A896-50E19D74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CDA60-DDEE-4DB6-8845-2DC18E00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E8331-C462-45D2-A359-2FA8662B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72F7F-12F4-4706-A198-305A06C0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C17-C118-46F4-AD53-1BA1ADBD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9A932-0EC6-4CF1-B7C2-44B6B4D2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14B66-54A8-4E29-A305-5FC361F1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02AA1-4FF7-48DF-861C-D6DFE479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341FA-C4C5-4C0C-8803-B0ED4509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91F99-A5FC-4A40-8687-4B4AF36C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AC9DB-11AD-46EA-ADFC-1AB52FD0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C956F-1A94-4F50-A257-E564FB12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BA44F-B987-489E-8F74-CC3CE2BE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225D2-25B8-4A55-8FA3-A24F76F9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0AE32-A8A3-41ED-9B38-113CA656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66B-D9A3-4C53-9ACC-30F99101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E710F-71E1-4651-A815-C6119C24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D4F30-D8A5-4C22-B0ED-91422D61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7C6DF-5929-4972-824B-6A3C6FA6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57FF5-D626-4660-940F-1222ED36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29D15-64A4-4E9A-883E-18F9C34D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82A38-D715-4F40-BB60-6FEA371D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D1A90-556F-4596-BD66-41565F5B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B41C3-B529-46F4-878E-FF19EA5F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7864E-EDE2-4707-882C-3639A358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993ED-1675-4699-98F2-A987428E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EAD-C08D-43B9-86F6-09D4A57B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25AE2-5D44-40B3-A59C-8E136505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B1ACF-813B-41E8-9940-E26B2872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3F387-6CFE-484C-B62A-CD406A4D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12F08-67C2-40D6-A2E5-87BC0F72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38B48-E553-4D83-93E1-B058FB41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7A8C8-74EA-4FB7-AB86-4CF482D3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1CC8F-D940-40B9-B382-754725FF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8F9D2-E8AE-4FE9-A3C2-54663A38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C013D-F5E2-48A1-80B4-DC15FBC8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FBB98-BE10-415A-9677-E90ECC3B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6F277-0207-4061-81B8-FD3F9BD28246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474FC-FC94-49E0-A1C3-606A34DA0EB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84E67-9724-4A35-92CC-AC44A6ADA667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7F960-EC5F-4AFF-B9F8-418E47D5B4F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EF2A6-CB56-4DB7-B211-6DD3CFCD87B8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C68CA-A683-4302-B122-51A8B1E858D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82155-4A3B-468E-9373-E6B86AF4EEAB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75DB5-E2BC-467B-BA2C-5450DB751FC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A1AED-B5AE-426A-AC2F-F1DC7689230C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3F101-A796-4476-A55E-39FC1E9291C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E318A-EEB6-4A9F-BFE8-DD8C3352D64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5E8EF-7F38-4F7A-A47B-E437903BD17C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046A7-87FD-4762-8778-349F0C838234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9CA5C-6425-4660-BE63-C87A06867B6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C0B4C-FC5B-4A35-8437-802C519D1ED4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3A949-7FD5-4655-B11A-1A7595585FCC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837BA-59DD-4A36-B9A5-F16ECADAACF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0EF30-F0F1-4670-B3A8-6FDFF623C29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6D5F0-FA17-463B-83C6-DDB81B85D73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F2CA4-508E-45DE-B4DF-25B0166DFEFB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AF386-EDE5-404B-96DA-92F8CEB63FD2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F4BEF-830B-4809-A82B-208C64D5ED9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48664-CEBB-41FC-A747-4A44F8361A26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5889E-CEBA-4B34-801B-AB943C8DA07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2AE6C-5689-49D6-8E4B-A05637C9F265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FD542-DC0C-489B-9DA8-8D57844768D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B0054-5AF8-4246-B681-A351A2085126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87574-2527-4933-BB89-3E87028E849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B00C1-7F15-49F3-9413-E6365384E10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211F6-C858-4D29-BF00-A15F7C13CA8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2640A-5F48-40BF-855D-15494AC17EF0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6607B-DECD-406B-989F-5D8F9718D8F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DC091-C2DF-4C76-AB32-ACE15795448F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A4DA0-0802-400D-808B-08A97625BF5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reek Government &amp; Law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79040" y="380520"/>
            <a:ext cx="7583400" cy="7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arly Greece: Dorians Inva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79440" y="1425600"/>
            <a:ext cx="844056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oth Mycenaean &amp; Minoan civilizations weakened by earthquak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y 1200 B.C all major Mycenaean cities destroy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ew migrating tribes (Dorians) arriv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ss advanced – “Greek Dark Age” Dorians appear to have been illiterate. No written record exists between 1150-750 B.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ntil Phoenician traders introduced an alphabet around 750 B.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79040" y="755280"/>
            <a:ext cx="75834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Development of City-States 800’s-700’s B.C.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88720" y="1600200"/>
            <a:ext cx="885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y 750 B.C. the method of governing areas had changed from tribal to more formal governments (city-states 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rebuchet MS"/>
              </a:rPr>
              <a:t>POLI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rew around fortified hilltop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OLIS: Greek city-state – the fundamental political unit of ancient Greece after about 750 B.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OLIS: Fort, the city and the surrounding lan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4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Shared Features of City-State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225360" y="852480"/>
            <a:ext cx="8918640" cy="60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30-500 square miles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mall population (most fewer than 10,000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Only free adult men had all rights of citizenship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omen were considered citizens without political righ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itizens gathered at th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rebuchet MS"/>
              </a:rPr>
              <a:t>AGORA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(marketplace) or on a fortified hilltop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rebuchet MS"/>
              </a:rPr>
              <a:t>ACROPOLIS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o discuss city governmen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poke the same languag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hared many religious ideas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Greek myth that all Greeks were descended from Hellen (Hellenistic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estivals such as Olympic Games brought them togethe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 were the Greeks Special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522360" y="1425600"/>
            <a:ext cx="8175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ate your own A3 poster showing the contributions of Greek Civiliza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is is intended to introduce you to the scope of Greek contributions (in summary - why we are studying Greek civilization) and some key individuals that we will look at in more detail late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ke this as attractive as you can – use bullet points notes, representative diagrams/symbols and pictures from internet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ity- State Political Structure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reek City-States had different structur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Monarchy, Oligarchy, Tyran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sing the handout create a mind map for each of these within the Greek contex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The Rise of Athen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atch the film and answer the questions to learn about the growth of Athens and the path to democrac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P3 files are loaded on Forum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Social Structure in Athens under the Aristocrac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75" name="Content Placeholder 3" descr=""/>
          <p:cNvPicPr/>
          <p:nvPr/>
        </p:nvPicPr>
        <p:blipFill>
          <a:blip r:embed="rId1"/>
          <a:stretch/>
        </p:blipFill>
        <p:spPr>
          <a:xfrm>
            <a:off x="237960" y="1420920"/>
            <a:ext cx="86742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26880" y="678960"/>
            <a:ext cx="758376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did democracy develop in Ancient Greec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697120" y="1425600"/>
            <a:ext cx="64468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eisthenes – noble Athenian of the  Alcmaeonid famil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508 B.C. overthrew tyrants and made sweeping changes that turned Athens into a limited democrac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ivided tribes into 10 clans, subdivided into local governments (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rebuchet MS"/>
              </a:rPr>
              <a:t>DEMES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ans each chose 50 members of Council of 500 – by lo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embers served 1 year – 2 term limit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Jurors also chosen by lot (from citizens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78" name="Picture 3" descr=""/>
          <p:cNvPicPr/>
          <p:nvPr/>
        </p:nvPicPr>
        <p:blipFill>
          <a:blip r:embed="rId1"/>
          <a:stretch/>
        </p:blipFill>
        <p:spPr>
          <a:xfrm>
            <a:off x="326880" y="1425600"/>
            <a:ext cx="237024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w did Pericles change Athens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Using pp13-135 of the handou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17520" y="1325520"/>
          <a:ext cx="8478720" cy="5172120"/>
        </p:xfrm>
        <a:graphic>
          <a:graphicData uri="http://schemas.openxmlformats.org/drawingml/2006/table">
            <a:tbl>
              <a:tblPr/>
              <a:tblGrid>
                <a:gridCol w="4238640"/>
                <a:gridCol w="424008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ericles’ chan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c59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ow this strengthened democracy and 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c5986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creased the number of public officials that were paid sala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se pp134-135 of the hand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me limits on holding off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d"/>
                    </a:solidFill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troduction of Direct Democra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d and strengthen the Athenian Emp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d"/>
                    </a:solidFill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orification of 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1"/>
          <p:cNvSpPr/>
          <p:nvPr/>
        </p:nvSpPr>
        <p:spPr>
          <a:xfrm>
            <a:off x="2357280" y="0"/>
            <a:ext cx="4119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henian Government &amp;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ecks and bal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"/>
          <p:cNvSpPr/>
          <p:nvPr/>
        </p:nvSpPr>
        <p:spPr>
          <a:xfrm>
            <a:off x="214200" y="1143000"/>
            <a:ext cx="18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2000160" y="12142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0"/>
          <p:cNvSpPr/>
          <p:nvPr/>
        </p:nvSpPr>
        <p:spPr>
          <a:xfrm>
            <a:off x="3929040" y="1295280"/>
            <a:ext cx="16430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iz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he parlia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2"/>
          <p:cNvSpPr/>
          <p:nvPr/>
        </p:nvSpPr>
        <p:spPr>
          <a:xfrm>
            <a:off x="5257800" y="144792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le landow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3"/>
          <p:cNvSpPr/>
          <p:nvPr/>
        </p:nvSpPr>
        <p:spPr>
          <a:xfrm>
            <a:off x="5715000" y="16765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ree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4"/>
          <p:cNvSpPr/>
          <p:nvPr/>
        </p:nvSpPr>
        <p:spPr>
          <a:xfrm flipV="1" rot="10800000">
            <a:off x="2642760" y="1816200"/>
            <a:ext cx="1428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dviso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8"/>
          <p:cNvSpPr/>
          <p:nvPr/>
        </p:nvSpPr>
        <p:spPr>
          <a:xfrm>
            <a:off x="1371600" y="2819520"/>
            <a:ext cx="186228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ereop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riminal law court, made up of  former arch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1"/>
          <p:cNvSpPr/>
          <p:nvPr/>
        </p:nvSpPr>
        <p:spPr>
          <a:xfrm>
            <a:off x="5029200" y="2286000"/>
            <a:ext cx="144792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uncil of 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2"/>
          <p:cNvSpPr/>
          <p:nvPr/>
        </p:nvSpPr>
        <p:spPr>
          <a:xfrm>
            <a:off x="7391520" y="3276720"/>
            <a:ext cx="14475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urt of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pp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8"/>
          <p:cNvSpPr/>
          <p:nvPr/>
        </p:nvSpPr>
        <p:spPr>
          <a:xfrm>
            <a:off x="5000760" y="2971800"/>
            <a:ext cx="185724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(the govern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citizens (30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1 year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2 term li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p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chosen by lotte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6"/>
          <p:cNvSpPr/>
          <p:nvPr/>
        </p:nvSpPr>
        <p:spPr>
          <a:xfrm flipH="1">
            <a:off x="3276360" y="1752480"/>
            <a:ext cx="857160" cy="21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7"/>
          <p:cNvSpPr/>
          <p:nvPr/>
        </p:nvSpPr>
        <p:spPr>
          <a:xfrm flipH="1">
            <a:off x="2362320" y="228600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8"/>
          <p:cNvSpPr/>
          <p:nvPr/>
        </p:nvSpPr>
        <p:spPr>
          <a:xfrm>
            <a:off x="5181480" y="1905120"/>
            <a:ext cx="328680" cy="25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9"/>
          <p:cNvSpPr/>
          <p:nvPr/>
        </p:nvSpPr>
        <p:spPr>
          <a:xfrm>
            <a:off x="6477120" y="2743200"/>
            <a:ext cx="1523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24"/>
          <p:cNvSpPr/>
          <p:nvPr/>
        </p:nvSpPr>
        <p:spPr>
          <a:xfrm>
            <a:off x="1066680" y="5029200"/>
            <a:ext cx="6950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id Pericles extend democrac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id paying people to attend the Assembly help democrac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 you think there were time limits on holding offi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 you think ‘checks and balances’ are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Focus Point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evelopment of Greek Democrac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haracteristics of Greek Socie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ontrasting Athenian and Spartan culture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79040" y="380520"/>
            <a:ext cx="7583400" cy="66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Democracy in the Age of Pericle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779040" y="1041120"/>
            <a:ext cx="75834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ominated Athenian public affairs between 461B.C.-429B.C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Great general, orator, and statesma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 time of Athens’ greatest power and prosperi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emocracy reaches its height (Direct Democracy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All male citizens could hold office (not just landowners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Officeholders received salarie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ost offices were chosen by lo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omen did not hold full citizenship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Athens still supported by slaver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Ostracism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xiled for 10 yea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6000 citizens had to vote for ostracis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esigned to prevent civil unrest and civil wa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thenians feared too much power in the hands of one or a few peopl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Democrac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o were the founding fathers of democracy?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are the characteristics of Athenian democracy?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raw a diagram or cartoon to that would help someone understand the main elements of Democrac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Law &amp; Government Glossar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autocracy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tyrann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oligarch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aristocrac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Direct democracy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Representative democrac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monarch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republic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49" name="Picture 3" descr="C:\Documents and Settings\Evan\My Documents\My Pictures\New Folder\map.jpg"/>
          <p:cNvPicPr/>
          <p:nvPr/>
        </p:nvPicPr>
        <p:blipFill>
          <a:blip r:embed="rId1"/>
          <a:srcRect l="2159" t="2554" r="4931" b="28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0" name="Title 1"/>
          <p:cNvSpPr/>
          <p:nvPr/>
        </p:nvSpPr>
        <p:spPr>
          <a:xfrm>
            <a:off x="1386000" y="406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What was so speci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bout the Gree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Content Placeholder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37760" y="538200"/>
            <a:ext cx="8931240" cy="5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arly Greece: Minoan Civilization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10600" y="1417680"/>
            <a:ext cx="84870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dence suggests that Minoan civilization was well developed by around 2000B.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te (soil unsuitable for many crops – trade by sea widely, including with Mycenae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as influenced by civilizations of Nile Valley &amp; Fertile Crescent but developed many unique features – frescoes, carved figures in bronze, ivory, gold,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rm of writing called Linear B (early form of Greek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oan Flee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56" name="Picture 3" descr=""/>
          <p:cNvPicPr/>
          <p:nvPr/>
        </p:nvPicPr>
        <p:blipFill>
          <a:blip r:embed="rId1"/>
          <a:stretch/>
        </p:blipFill>
        <p:spPr>
          <a:xfrm>
            <a:off x="520560" y="1828800"/>
            <a:ext cx="810756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89000" y="0"/>
            <a:ext cx="868680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arly Greece: Mycenaean Civilization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0" y="1058400"/>
            <a:ext cx="91440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arly Indo-European settlers arrived on the Greek Mainland around 2000 B.C. settled in southern Greec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uilt fortified cities: Mycenae, Tiryns, Pylos - Mycenae was fortified by a wall more than 20ft thic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lers controlled the surrounding areas.Mycenaean Kings dominated Greece 1600 – 1100 B.C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dopted many elements of Minoan cultur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ojan War 1200’s B.C. – 10 year war with Independent Anatolian trading city Tro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Reconstruction of Mycena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282600" y="1425600"/>
            <a:ext cx="853740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4:12:56Z</dcterms:created>
  <dc:creator>IT User</dc:creator>
  <dc:description/>
  <dc:language>en-US</dc:language>
  <cp:lastModifiedBy>IT User</cp:lastModifiedBy>
  <cp:lastPrinted>2010-11-04T17:58:00Z</cp:lastPrinted>
  <dcterms:modified xsi:type="dcterms:W3CDTF">2010-11-08T08:11:00Z</dcterms:modified>
  <cp:revision>29</cp:revision>
  <dc:subject/>
  <dc:title>Greek Government &amp; Law</dc:title>
</cp:coreProperties>
</file>